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E94-61F6-4D37-974A-7BEEA24C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F4F-286D-4D09-ACF5-E7A316AB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FB6-7C99-4A49-9290-A7D48E26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AB6-85E4-44D7-B41F-582C6CCD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62C-0E74-412A-9F8C-07F69D0E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0ADB-B1E1-4E30-A518-D9C1EDBF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8D5A-0D17-46C1-A5EA-04423FC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7D5B-94B0-4C52-A3DA-9BC868EA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AB72-AE6D-4FEA-8A95-F2E35945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46C9-CC03-4E5E-A21B-E3AFF2DE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3B8-7812-4E97-8E5A-7FCBFC2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75D-77CA-4E07-8C7D-CE916296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9FF-237B-4939-A09B-A686E6F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53EE-AA1C-41A4-8D8E-9F7F89D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13CF-EB4D-4B46-BABC-9F804A38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394-B5F4-4582-A746-6B237BAB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C15D-2404-4EF0-885B-31023760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CFB0-8CA0-47F5-B048-3D002553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EBB0-D0B8-4B0B-AAF7-2FAE350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FB30-CAA0-423E-853A-D18041F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DF0C-FA64-4D74-BF0F-25EF0B88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0372-BDBC-468F-8EA7-9496D5C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63D-2267-4995-A0B8-A6B2F799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E01D-29CC-4235-8C7E-D15CDB52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EAE8-49FB-4635-9981-862059D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DA45-EDAD-49B5-B109-5C27ADB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8D75-886B-4817-A352-567E5A3E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9914-8E1C-451C-A632-05A6BCB4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ECA7-D230-416A-9969-E0CC0480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58B1-904F-4398-AF51-F683F378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A76A3-C6ED-4222-B438-C201E587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E10A-5421-4C96-A56E-E6A064E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5AA5-DC9A-4113-8A7A-38810F03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345-9AB5-487F-8AEB-98DFE3C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EDEF-9905-4A20-85ED-DCACF43C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71DF-7A05-4EAC-BD27-E9FBC32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18D4-C100-426A-AADB-CC06A09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33D3-94D7-477C-8DC5-55FA048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B159-2058-45E7-ACCA-F45FFBA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CE49-6531-4F34-946C-7B5778C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E1D8-E6AC-4CC3-B3A0-8307CE2A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208AB-56A0-46A8-90C1-DB751F35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CDDA-517C-4B5A-887D-8E8C44D5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69F-67B2-40AC-8895-3F78F784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7B3-948B-486D-83B1-C578FDD7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C66-B603-46F9-9F2C-530D46F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B9C-29C1-430D-98E2-ACF6E4E7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1BB-ED7A-467F-82EA-129C386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1C2-A1A0-4E59-AD35-D7B715730163}" type="slidenum"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8809-BFA9-44CB-8B52-4B8EA2AEF8E7}" type="slidenum"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8BE-CEDE-4AAC-96F4-37F60D51FBEF}" type="slidenum"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827-178E-4E7B-A46E-6762DF4C085C}" type="slidenum"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920880"/>
            <a:ext cx="786456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3143160"/>
            <a:ext cx="78548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ra Saee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plann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Consider each risk and develop a strategy to manage that r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voidance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The probability that the risk will arise is reduc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Minimisation strateg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The impact of the risk on the project or product will be reduc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Contingency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If the arises, contingency plans are planed to deal with that r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1565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management strategi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916280"/>
          <a:ext cx="8209080" cy="4033800"/>
        </p:xfrm>
        <a:graphic>
          <a:graphicData uri="http://schemas.openxmlformats.org/drawingml/2006/table">
            <a:tbl>
              <a:tblPr/>
              <a:tblGrid>
                <a:gridCol w="1519200"/>
                <a:gridCol w="6689880"/>
              </a:tblGrid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is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trate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2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financial probl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pare a briefing document for senior management showing how the project is making a very important contribution to the goal of the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0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ff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organise team so that there is more overlap of work and people therefore understand each other’s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0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restructu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pare a briefing document for senior management showing how the project is making a very important contribution to the goals of the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monitoring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ssess each identified risks regularly to decide whether or not it is becoming less or more prob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lso assess whether the effects of the risk have chang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Each key risk should be discussed at management progress meet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indicato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2133720"/>
          <a:ext cx="8064360" cy="3857400"/>
        </p:xfrm>
        <a:graphic>
          <a:graphicData uri="http://schemas.openxmlformats.org/drawingml/2006/table">
            <a:tbl>
              <a:tblPr/>
              <a:tblGrid>
                <a:gridCol w="1774800"/>
                <a:gridCol w="62895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isk 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tential indicato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olo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e delivery of hardware or support software, many reported technology problem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op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staff morale, poor relationships amongst team member, job availa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gossip, lack of action by senior mana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quir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y requirements change requests customer compl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im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ilure to meet agreed schedule, failure to clear reported de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Key Poin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Good project management is essential for project suc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The intangible nature of software causes problems for manage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Managers have diverse roles but their most significant activities are planning, estimating and schedul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lanning and estimating are iterative processes which continue throughout the course of a project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Key poin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 project milestone is a predictable state where a formal report of progress is presented to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roject scheduling involves preparing various graphical representations showing project activities, their durations and staffin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management is concerned with identified risks which may affect the project and planning to ensure that these risks do not develop into major threat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10 Golden Rules of Project Risk Managemen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178596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 Risk Management Part of your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ntify Risks Early in Your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cate About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 Both Threats and Opport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rify Ownership Iss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orities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alyze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 an Implement Risks Respon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ister Project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ack Risks and Associated Ta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management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 risk is a probability that some adverse circumstance will occu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management is concerned with identify risk and drawing up plans to minimise their effect on a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roject risks affect schedule or 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roduct risks affect the quality or performance of the software being develop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Business risks affect the organisation developing or procuring the softwa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management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9640" y="2421000"/>
          <a:ext cx="8280360" cy="3705120"/>
        </p:xfrm>
        <a:graphic>
          <a:graphicData uri="http://schemas.openxmlformats.org/drawingml/2006/table">
            <a:tbl>
              <a:tblPr/>
              <a:tblGrid>
                <a:gridCol w="1521000"/>
                <a:gridCol w="1160280"/>
                <a:gridCol w="55990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isk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ffec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crip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ff rem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j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erienced staff will leave the project before it is finish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1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quirement 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ject an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re will be large number of changes to the requirements than anticip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2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 competi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competitive product is marketed before the system is comple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The risk management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identif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Identify project, product and business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analy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Assess the likelihood and consequences of these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Draw up plans to avoid or minimise the effects of the r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monitor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onstantia"/>
              </a:rPr>
              <a:t>Monitor the risks throughout the pro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The risk management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Content Placeholder 6" descr=""/>
          <p:cNvPicPr/>
          <p:nvPr/>
        </p:nvPicPr>
        <p:blipFill>
          <a:blip r:embed="rId1"/>
          <a:stretch/>
        </p:blipFill>
        <p:spPr>
          <a:xfrm>
            <a:off x="384120" y="1596960"/>
            <a:ext cx="8588520" cy="4535640"/>
          </a:xfrm>
          <a:prstGeom prst="rect">
            <a:avLst/>
          </a:prstGeom>
          <a:ln w="0">
            <a:noFill/>
          </a:ln>
        </p:spPr>
      </p:pic>
      <p:sp>
        <p:nvSpPr>
          <p:cNvPr id="205" name="Down Arrow 7"/>
          <p:cNvSpPr/>
          <p:nvPr/>
        </p:nvSpPr>
        <p:spPr>
          <a:xfrm>
            <a:off x="1042920" y="3933720"/>
            <a:ext cx="144360" cy="50328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Down Arrow 9"/>
          <p:cNvSpPr/>
          <p:nvPr/>
        </p:nvSpPr>
        <p:spPr>
          <a:xfrm>
            <a:off x="3276720" y="3919680"/>
            <a:ext cx="142920" cy="504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own Arrow 10"/>
          <p:cNvSpPr/>
          <p:nvPr/>
        </p:nvSpPr>
        <p:spPr>
          <a:xfrm>
            <a:off x="5580000" y="3919680"/>
            <a:ext cx="144360" cy="5047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Down Arrow 11"/>
          <p:cNvSpPr/>
          <p:nvPr/>
        </p:nvSpPr>
        <p:spPr>
          <a:xfrm>
            <a:off x="7740720" y="3870360"/>
            <a:ext cx="144360" cy="5047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identific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Technology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eople risk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Organisational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equirement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Estimation ris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s and risk typ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68360" y="2060640"/>
          <a:ext cx="8362800" cy="4133880"/>
        </p:xfrm>
        <a:graphic>
          <a:graphicData uri="http://schemas.openxmlformats.org/drawingml/2006/table">
            <a:tbl>
              <a:tblPr/>
              <a:tblGrid>
                <a:gridCol w="1728720"/>
                <a:gridCol w="663408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isk 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ssible 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chnolo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op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quire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i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analy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Assess probability and seriousness of each ris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Probability may be very low, low, moderate, high or very hig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onstantia"/>
              </a:rPr>
              <a:t>Risk effects might be catastrophic, serious, tolerable or insignifica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04617b"/>
                </a:solidFill>
                <a:latin typeface="Calibri"/>
              </a:rPr>
              <a:t>Risk analys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4360" y="1971720"/>
          <a:ext cx="8064360" cy="4132080"/>
        </p:xfrm>
        <a:graphic>
          <a:graphicData uri="http://schemas.openxmlformats.org/drawingml/2006/table">
            <a:tbl>
              <a:tblPr/>
              <a:tblGrid>
                <a:gridCol w="3962160"/>
                <a:gridCol w="2046240"/>
                <a:gridCol w="2055960"/>
              </a:tblGrid>
              <a:tr h="49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oba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ffe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ganisational financial problem force reduction in the project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tastroph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database used in the system cannot process as many transactions per second expec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de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i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time required to develop the software is underestim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i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quired training for staff is not avail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de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lera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6:06:56Z</dcterms:created>
  <dc:creator>Zeeshan</dc:creator>
  <dc:description/>
  <dc:language>en-US</dc:language>
  <cp:lastModifiedBy>ApnaITcenter</cp:lastModifiedBy>
  <dcterms:modified xsi:type="dcterms:W3CDTF">2020-04-01T12:17:26Z</dcterms:modified>
  <cp:revision>31</cp:revision>
  <dc:subject/>
  <dc:title>Risk Management</dc:title>
</cp:coreProperties>
</file>